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9000-D74D-443C-A1C2-7AC524D8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818A-21B5-498C-919A-7872D916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FA2-9B66-4195-AFF7-8697F322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190A-1B2A-422B-A57B-B3C6DA56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9EAD-B0F0-4016-98FC-CC5FFDDE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4036-8630-4244-92D5-8A7CE754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654A-57BE-494C-8F99-D407B239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2A7B-6192-4070-80EB-66DE844B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03D5-97CF-41A1-B3E1-C09ACB15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7F2C-28C6-4AB3-BE01-E7D43098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0CC7-99B4-49E1-BF46-BC12CA6E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04D-0263-413E-BE50-E0083A41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258E-2DF5-435D-8B99-2D27409AC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rning Warm- Up</a:t>
            </a:r>
            <a:br>
              <a:rPr sz="12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reative ideas can solve problems or answer questions.  When are creative ideas good?  When are they bad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rning Warm- Up</a:t>
            </a:r>
            <a:br>
              <a:rPr sz="1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ow do you feel when someone tries to trick you or when anyone lies to you?  What is something you can d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04920"/>
            <a:ext cx="8686800" cy="731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14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esterday Farmer Smart had a problem.  Today he finds a way to fix it.  Tomorrow he won’t have the problem anymore!  How do you fix your problems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8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day we will read about a small clever insect.  A spider spins long, sticky webs to trap bugs to eat.  Do you know why the spider doesn’t get stuck in its own web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-228600"/>
            <a:ext cx="8686800" cy="739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26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is week we read about characters who had creative ideas.  When are creative ideas good?  When are they bad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2:11:12Z</dcterms:created>
  <dc:creator> </dc:creator>
  <dc:description/>
  <dc:language>en-US</dc:language>
  <cp:lastModifiedBy>teacher</cp:lastModifiedBy>
  <dcterms:modified xsi:type="dcterms:W3CDTF">2010-11-14T02:27:19Z</dcterms:modified>
  <cp:revision>46</cp:revision>
  <dc:subject/>
  <dc:title> Morning Warm- Up! The cat needs some water.  The dog wants a bone.  That bird lives in a birdhouse where she feels quite at home.  How do people take care of pets?</dc:title>
</cp:coreProperties>
</file>